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2E4-A3BC-497D-8290-91F4EF79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D96-5C77-43C5-9511-A657ABC5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7A4-836F-4F03-A58A-90F7F326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F66-000E-48F0-A4C5-EC5DA0FB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8D20-F752-4757-8BFC-F8CBA61B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6E07-53C7-4902-8F81-98D7B4A0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FCD9-3DA8-41F6-AFF8-3C0B80A0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8153-48B0-4F41-896D-D1B0A34C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23D7-1F14-42D1-AAC1-45DE851B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5E92-57A5-43D0-ACCE-9FCA3BA3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461F-3313-4567-A808-264823CE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882-677B-4682-A090-6AF42F53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2BAD-A2CE-4E4A-89A3-CABE72D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7D97-7804-473C-A027-BD4CBDE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E3D0-F2F2-44E1-900C-D9C3FBE8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7394-3881-421E-B6FA-94BE635E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74D-D096-465B-8546-E9AFD795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1E5-5CA2-4985-B68B-4154EB8C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28C-94BB-4DE1-AA3B-E998DFF7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451-C655-45A6-85E4-840DA2D0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344-6DD2-44FB-9314-9448818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299-6820-411A-98F8-7C4AEAC6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91F-C7A6-408C-924E-4846EDA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93C-A9A4-48C7-8D66-9D09BE3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4819-9ED6-4129-BFE9-36069EB0FC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F4F-218A-4E97-9C8B-D35BE33FE1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2413080"/>
            <a:ext cx="8569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анорамный урок по биологии: </a:t>
            </a: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«Бодо – одноклеточное жгутиковое беспозвоночное животное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455616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биологии ОСШ №3 г. Акс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венко Т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оение Бо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7936"/>
          <a:stretch/>
        </p:blipFill>
        <p:spPr>
          <a:xfrm>
            <a:off x="0" y="2155680"/>
            <a:ext cx="9144000" cy="32893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10108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520" y="4888080"/>
            <a:ext cx="5867640" cy="1854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4520" y="60480"/>
            <a:ext cx="3961080" cy="22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205080" y="2516040"/>
            <a:ext cx="5867640" cy="2208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810108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92240" y="-27000"/>
            <a:ext cx="5029200" cy="68850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810108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692280"/>
            <a:ext cx="820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шай внимательно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2924280"/>
            <a:ext cx="820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важай мнение других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5157720"/>
            <a:ext cx="820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согласен - аргументируй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102520" y="602136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клеточное, вод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ышит, питается, двиг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множается простым делением надв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вот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184400" y="98280"/>
            <a:ext cx="6847560" cy="6719760"/>
            <a:chOff x="1184400" y="98280"/>
            <a:chExt cx="6847560" cy="6719760"/>
          </a:xfrm>
        </p:grpSpPr>
        <p:sp>
          <p:nvSpPr>
            <p:cNvPr id="91" name="_s3093"/>
            <p:cNvSpPr/>
            <p:nvPr/>
          </p:nvSpPr>
          <p:spPr>
            <a:xfrm flipH="1" flipV="1">
              <a:off x="3244680" y="2498760"/>
              <a:ext cx="684360" cy="547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092"/>
            <p:cNvSpPr/>
            <p:nvPr/>
          </p:nvSpPr>
          <p:spPr>
            <a:xfrm>
              <a:off x="1688760" y="1084680"/>
              <a:ext cx="1744200" cy="1744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Работа учащихс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на урок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3091"/>
            <p:cNvSpPr/>
            <p:nvPr/>
          </p:nvSpPr>
          <p:spPr>
            <a:xfrm flipH="1">
              <a:off x="2907000" y="3781440"/>
              <a:ext cx="853920" cy="194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3090"/>
            <p:cNvSpPr/>
            <p:nvPr/>
          </p:nvSpPr>
          <p:spPr>
            <a:xfrm>
              <a:off x="1184400" y="3299040"/>
              <a:ext cx="1744560" cy="1744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Работа учител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на урок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3089"/>
            <p:cNvSpPr/>
            <p:nvPr/>
          </p:nvSpPr>
          <p:spPr>
            <a:xfrm flipH="1">
              <a:off x="3851280" y="4371480"/>
              <a:ext cx="379440" cy="7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088"/>
            <p:cNvSpPr/>
            <p:nvPr/>
          </p:nvSpPr>
          <p:spPr>
            <a:xfrm>
              <a:off x="2600640" y="5073840"/>
              <a:ext cx="1744560" cy="1744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лан уро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3087"/>
            <p:cNvSpPr/>
            <p:nvPr/>
          </p:nvSpPr>
          <p:spPr>
            <a:xfrm>
              <a:off x="4985640" y="4371480"/>
              <a:ext cx="379800" cy="7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3086"/>
            <p:cNvSpPr/>
            <p:nvPr/>
          </p:nvSpPr>
          <p:spPr>
            <a:xfrm>
              <a:off x="4871520" y="5073840"/>
              <a:ext cx="1744200" cy="1744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Этапы уро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3085"/>
            <p:cNvSpPr/>
            <p:nvPr/>
          </p:nvSpPr>
          <p:spPr>
            <a:xfrm>
              <a:off x="5455440" y="3781440"/>
              <a:ext cx="853920" cy="194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084"/>
            <p:cNvSpPr/>
            <p:nvPr/>
          </p:nvSpPr>
          <p:spPr>
            <a:xfrm>
              <a:off x="6287760" y="3297240"/>
              <a:ext cx="1744200" cy="1744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Правила урок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083"/>
            <p:cNvSpPr/>
            <p:nvPr/>
          </p:nvSpPr>
          <p:spPr>
            <a:xfrm flipV="1">
              <a:off x="5287680" y="2498400"/>
              <a:ext cx="684000" cy="546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082"/>
            <p:cNvSpPr/>
            <p:nvPr/>
          </p:nvSpPr>
          <p:spPr>
            <a:xfrm>
              <a:off x="5781600" y="1082160"/>
              <a:ext cx="1744200" cy="1744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Цели уро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081"/>
            <p:cNvSpPr/>
            <p:nvPr/>
          </p:nvSpPr>
          <p:spPr>
            <a:xfrm flipV="1">
              <a:off x="4607280" y="1842480"/>
              <a:ext cx="0" cy="874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080">
              <a:hlinkClick r:id="rId1" action="ppaction://hlinksldjump"/>
            </p:cNvPr>
            <p:cNvSpPr/>
            <p:nvPr/>
          </p:nvSpPr>
          <p:spPr>
            <a:xfrm>
              <a:off x="3735360" y="98280"/>
              <a:ext cx="1744200" cy="1744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Форма уро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079"/>
            <p:cNvSpPr/>
            <p:nvPr/>
          </p:nvSpPr>
          <p:spPr>
            <a:xfrm>
              <a:off x="3735360" y="2716920"/>
              <a:ext cx="1744200" cy="1744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</a:rPr>
                <a:t>Модуль №8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49080" y="2277000"/>
              <a:ext cx="2658240" cy="2660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одуль №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Беспозвоночные живот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Урок 3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. Бодо-одноклеточ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жгутиковое беспозвоночно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животно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endshow"/>
            <a:hlinkClick r:id="rId3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ор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бинированны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ение модульного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пользование методов критического мышл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511280" y="3933720"/>
            <a:ext cx="6300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таблицы «ТИ»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 групп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квей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7669080" y="5734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разовательна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ширить знания о многообразии многоклеточных животных на примере Бод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казать их роль в природе и жизни челове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явление характерных черт строения и процессов жизнедеятельности простейш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вающа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вершенствовать умение учащихся работать с таблицами, рисунками, схем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ть имеющиеся зн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равнивать, делать выводы, работать в группе, работать с текстом учебн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итательна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меть работать в групп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важать мнение товарищ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миться получить больше знаний об окружающем         нас ми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817236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учителя на урок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интересовывает в получении новых зн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авливает дополнительный и раздаточный материа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авляет таблицу «ТИ», записывает все высказывания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правляет работу учащихся в групп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слушивает мнение учащихся, корректно направляя в нужном направле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емится достичь целей уро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172360" y="602136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бота учащихся на урок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авление определенных правил для уро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имательно слушают учителя и товарищ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поминают пройденный материа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атся распознавать животных по признака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ие работать с учебни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ие работать в групп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ие отстаивать свое мн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особность делать выводы из пройденного на уро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810108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ужд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ение текста из письма Левенгу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атривание рисун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комство с системати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ие таблицы «Т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мысл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ение текста из учебни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суждение и запись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бавляем новые знания в таблицу «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мысл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 в группах – сравнивае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670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до и амеб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4670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до и эвглена «зелена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4670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до и инфузория-«туфель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флекс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Защита про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флекс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Синквей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810252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тапы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2000" y="1341360"/>
            <a:ext cx="8642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поминае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атриваем рисунки одноклеточных животных, вспоминаем знания из шестого клас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комимс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атриваем рисунок Бодо, записываем системати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разумевае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яем таблицу «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ае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таем текст учебника, в тетрадь добавляем новые призна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бавляе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писываем таблицу «ТИ» на дос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авнивае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 в группах и по таблиц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репляе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яем синквейн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205160" y="3179880"/>
          <a:ext cx="4038840" cy="66996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102520" y="5950080"/>
            <a:ext cx="1006560" cy="863640"/>
          </a:xfrm>
          <a:custGeom>
            <a:avLst/>
            <a:gdLst>
              <a:gd name="textAreaLeft" fmla="*/ 55800 w 1006560"/>
              <a:gd name="textAreaRight" fmla="*/ 950760 w 1006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173" h="21600">
                <a:moveTo>
                  <a:pt x="0" y="0"/>
                </a:moveTo>
                <a:lnTo>
                  <a:pt x="25173" y="0"/>
                </a:lnTo>
                <a:lnTo>
                  <a:pt x="25173" y="21600"/>
                </a:lnTo>
                <a:lnTo>
                  <a:pt x="0" y="21600"/>
                </a:lnTo>
                <a:close/>
              </a:path>
              <a:path fill="lightenLess" w="25173" h="21600">
                <a:moveTo>
                  <a:pt x="0" y="0"/>
                </a:moveTo>
                <a:lnTo>
                  <a:pt x="25173" y="0"/>
                </a:lnTo>
                <a:lnTo>
                  <a:pt x="23773" y="1400"/>
                </a:lnTo>
                <a:lnTo>
                  <a:pt x="1400" y="1400"/>
                </a:lnTo>
                <a:close/>
              </a:path>
              <a:path fill="darken" w="25173" h="21600">
                <a:moveTo>
                  <a:pt x="25173" y="0"/>
                </a:moveTo>
                <a:lnTo>
                  <a:pt x="25173" y="21600"/>
                </a:lnTo>
                <a:lnTo>
                  <a:pt x="23773" y="20200"/>
                </a:lnTo>
                <a:lnTo>
                  <a:pt x="23773" y="1400"/>
                </a:lnTo>
                <a:close/>
              </a:path>
              <a:path fill="darkenLess" w="25173" h="21600">
                <a:moveTo>
                  <a:pt x="25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3" y="20200"/>
                </a:lnTo>
                <a:close/>
              </a:path>
              <a:path fill="lighten" w="25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3" h="21600">
                <a:moveTo>
                  <a:pt x="12587" y="3837"/>
                </a:moveTo>
                <a:lnTo>
                  <a:pt x="15163" y="6448"/>
                </a:ln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lnTo>
                  <a:pt x="19549" y="10800"/>
                </a:lnTo>
                <a:lnTo>
                  <a:pt x="17896" y="10800"/>
                </a:lnTo>
                <a:lnTo>
                  <a:pt x="17896" y="17989"/>
                </a:lnTo>
                <a:lnTo>
                  <a:pt x="7277" y="17989"/>
                </a:lnTo>
                <a:lnTo>
                  <a:pt x="7277" y="10800"/>
                </a:lnTo>
                <a:lnTo>
                  <a:pt x="5624" y="10800"/>
                </a:lnTo>
                <a:close/>
              </a:path>
              <a:path fill="darkenLess" w="25173" h="21600">
                <a:moveTo>
                  <a:pt x="15163" y="6448"/>
                </a:moveTo>
                <a:lnTo>
                  <a:pt x="15163" y="4707"/>
                </a:lnTo>
                <a:lnTo>
                  <a:pt x="16938" y="4707"/>
                </a:lnTo>
                <a:lnTo>
                  <a:pt x="16938" y="8224"/>
                </a:lnTo>
                <a:close/>
              </a:path>
              <a:path fill="darkenLess" w="25173" h="21600">
                <a:moveTo>
                  <a:pt x="11664" y="14299"/>
                </a:moveTo>
                <a:lnTo>
                  <a:pt x="13509" y="14299"/>
                </a:lnTo>
                <a:lnTo>
                  <a:pt x="13509" y="17989"/>
                </a:lnTo>
                <a:lnTo>
                  <a:pt x="17896" y="17989"/>
                </a:lnTo>
                <a:lnTo>
                  <a:pt x="17896" y="10800"/>
                </a:lnTo>
                <a:lnTo>
                  <a:pt x="7277" y="10800"/>
                </a:lnTo>
                <a:lnTo>
                  <a:pt x="7277" y="17989"/>
                </a:lnTo>
                <a:lnTo>
                  <a:pt x="11664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532720" y="1341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532720" y="2349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5157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стематическое полож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арство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царство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дноклет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509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п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с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гутиконос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инетопласт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од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: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одо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dox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31040" y="1628640"/>
            <a:ext cx="2438280" cy="424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38960" y="2708280"/>
            <a:ext cx="1131840" cy="129708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824400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3794"/>
                </a:moveTo>
                <a:lnTo>
                  <a:pt x="19547" y="10800"/>
                </a:lnTo>
                <a:lnTo>
                  <a:pt x="553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8:04:19Z</dcterms:created>
  <dc:creator>Irina</dc:creator>
  <dc:description/>
  <dc:language>en-US</dc:language>
  <cp:lastModifiedBy>Irina</cp:lastModifiedBy>
  <dcterms:modified xsi:type="dcterms:W3CDTF">2007-11-21T18:05:14Z</dcterms:modified>
  <cp:revision>1</cp:revision>
  <dc:subject/>
  <dc:title>Панорамный урок по биологии: «Бодо – одноклеточное жгутиковое беспозвоночное животное»</dc:title>
</cp:coreProperties>
</file>